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27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34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DB60-A304-4AB4-BBBF-CD03B249FC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s and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important terms that relate to genetics and inheritance (KS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basic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s and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important terms that relate to genetics and inheritance (KS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basic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identical (can be either dominant or 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identical (can be either dominant or 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not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not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plants and animals with useful or desired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bred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duce offspring with those desired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plants and animals with useful or desired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bred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duce offspring with those desired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ing of the character of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ing genes from another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ing of the character of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ing genes from another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of a cell to produce 2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each ha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nd kind of chromosomes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the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of a cell to produce 2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each ha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nd kind of chromosomes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the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reproduction that inv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reproduction that inv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whereby individuals are produc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whereby individuals are produc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change in the genetic material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change in the genetic material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expressed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expressed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‘hidden’ (not expres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given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‘hidden’ (not expres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given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your own words, explain the following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min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own words, explain the following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that tell cells what we look like are carried in these.  There are 23 pairs of them in a normal human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that tell cells what we look like are carried in these.  There are 23 pairs of them in a normal human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units which make up chromosomes. Responsible for inheritance of specific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units which make up chromosomes. Responsible for inheritance of specific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ings like eye colou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olour and hair colou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ntrolled by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ings like eye colou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olour and hair colou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ntrolled by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cells are both this type of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lf the amount of DNA of normal diploid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cells are both this type of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lf the amount of DNA of normal diploid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perm and egg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togeth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perm and egg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togeth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this word to descri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contain the fu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 of gene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.  In humans thi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chromosomes (23 pai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this word to descri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contain the fu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 of gene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.  In humans thi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chromosomes (23 pai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versions of ge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versions of ge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6043-6E10-4F2B-9355-B28A11E4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366-62EA-4D22-844C-D27D190A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3378-3BA6-497D-ADE9-91B0839C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647C-854F-4B28-BB65-65C2833A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E8EE-EDD2-4A0F-A502-F94B90A8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3AED-5901-4A38-B6A8-198F397A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D9CA-24DF-4AB3-A778-8345E646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3960-69EC-4E72-A581-58D589EA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DA19-C800-44BF-AE34-E149631A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F3B5-AC31-4755-9C2B-B0ADE882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105D-F88E-4E6F-B8D9-F62F6598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C53-4770-42F2-A08B-3449DD54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9A1D-5D83-4BBA-A1FF-462CC1CF60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28.jpe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tics and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i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 recall the important terms that relate to genetics and inheritance (KS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scribe the basic structure of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8" descr="fly1"/>
          <p:cNvPicPr/>
          <p:nvPr/>
        </p:nvPicPr>
        <p:blipFill>
          <a:blip r:embed="rId1"/>
          <a:stretch/>
        </p:blipFill>
        <p:spPr>
          <a:xfrm>
            <a:off x="324000" y="2205000"/>
            <a:ext cx="7561080" cy="3913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 rot="21253800">
            <a:off x="3059280" y="476280"/>
            <a:ext cx="547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omozyg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4" name="Text Box 6"/>
          <p:cNvSpPr/>
          <p:nvPr/>
        </p:nvSpPr>
        <p:spPr>
          <a:xfrm rot="1759800">
            <a:off x="5578920" y="2997000"/>
            <a:ext cx="3187800" cy="1557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eles of a given gene are identical (can be either dominant or rece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3"/>
          <p:cNvSpPr txBox="1"/>
          <p:nvPr/>
        </p:nvSpPr>
        <p:spPr>
          <a:xfrm>
            <a:off x="5148360" y="404640"/>
            <a:ext cx="2808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eterozygou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364000" y="369576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eles of a given gene are not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fly1"/>
          <p:cNvPicPr/>
          <p:nvPr/>
        </p:nvPicPr>
        <p:blipFill>
          <a:blip r:embed="rId1"/>
          <a:stretch/>
        </p:blipFill>
        <p:spPr>
          <a:xfrm>
            <a:off x="324000" y="3860640"/>
            <a:ext cx="4895640" cy="2533680"/>
          </a:xfrm>
          <a:prstGeom prst="rect">
            <a:avLst/>
          </a:prstGeom>
          <a:ln w="0">
            <a:noFill/>
          </a:ln>
        </p:spPr>
      </p:pic>
      <p:sp>
        <p:nvSpPr>
          <p:cNvPr id="119" name="Line 5"/>
          <p:cNvSpPr/>
          <p:nvPr/>
        </p:nvSpPr>
        <p:spPr>
          <a:xfrm flipH="1">
            <a:off x="1763280" y="2708280"/>
            <a:ext cx="3313080" cy="23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3" descr="section-photo-race-hors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9"/>
          <p:cNvSpPr txBox="1"/>
          <p:nvPr/>
        </p:nvSpPr>
        <p:spPr>
          <a:xfrm>
            <a:off x="539640" y="189000"/>
            <a:ext cx="8209080" cy="29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lective breeding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179280" y="3429000"/>
            <a:ext cx="8640720" cy="27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Where plants and animals with useful or desired tra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are bred tog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to produce offspring with those desired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T01281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3"/>
          <p:cNvSpPr txBox="1"/>
          <p:nvPr/>
        </p:nvSpPr>
        <p:spPr>
          <a:xfrm>
            <a:off x="468360" y="476280"/>
            <a:ext cx="8064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netic engineer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116000" y="3573360"/>
            <a:ext cx="7488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 altering of the character of 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organism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inserting genes from another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mitosis"/>
          <p:cNvPicPr/>
          <p:nvPr/>
        </p:nvPicPr>
        <p:blipFill>
          <a:blip r:embed="rId1"/>
          <a:stretch/>
        </p:blipFill>
        <p:spPr>
          <a:xfrm>
            <a:off x="2195640" y="260280"/>
            <a:ext cx="4073400" cy="63374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3"/>
          <p:cNvSpPr txBox="1"/>
          <p:nvPr/>
        </p:nvSpPr>
        <p:spPr>
          <a:xfrm>
            <a:off x="3780000" y="1125360"/>
            <a:ext cx="4700520" cy="151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mito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700360" y="3429000"/>
            <a:ext cx="6119640" cy="20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vision of a cell to produce 2 dau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ells which each ha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umber and kind of chromosomes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mother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2281320" y="4832280"/>
            <a:ext cx="390600" cy="39996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9"/>
          <p:cNvSpPr txBox="1"/>
          <p:nvPr/>
        </p:nvSpPr>
        <p:spPr>
          <a:xfrm>
            <a:off x="324000" y="765000"/>
            <a:ext cx="8569080" cy="30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xual reproduction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611280" y="4508640"/>
            <a:ext cx="7416720" cy="18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Type of reproduction that 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fusion of game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modbudding"/>
          <p:cNvPicPr/>
          <p:nvPr/>
        </p:nvPicPr>
        <p:blipFill>
          <a:blip r:embed="rId1"/>
          <a:stretch/>
        </p:blipFill>
        <p:spPr>
          <a:xfrm>
            <a:off x="179280" y="189000"/>
            <a:ext cx="3662640" cy="6408720"/>
          </a:xfrm>
          <a:prstGeom prst="rect">
            <a:avLst/>
          </a:prstGeom>
          <a:ln w="0">
            <a:noFill/>
          </a:ln>
        </p:spPr>
      </p:pic>
      <p:sp>
        <p:nvSpPr>
          <p:cNvPr id="140" name="WordArt 3"/>
          <p:cNvSpPr txBox="1"/>
          <p:nvPr/>
        </p:nvSpPr>
        <p:spPr>
          <a:xfrm rot="21253800">
            <a:off x="4138560" y="752040"/>
            <a:ext cx="47545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sexual reprodu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1" name="Text Box 4"/>
          <p:cNvSpPr/>
          <p:nvPr/>
        </p:nvSpPr>
        <p:spPr>
          <a:xfrm rot="813600">
            <a:off x="4104360" y="3357720"/>
            <a:ext cx="5040360" cy="15562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Eurostar Black Extended"/>
              </a:rPr>
              <a:t>Reproduction whereby individuals are produced from a sing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643364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d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WordArt 2"/>
          <p:cNvSpPr txBox="1"/>
          <p:nvPr/>
        </p:nvSpPr>
        <p:spPr>
          <a:xfrm>
            <a:off x="2916360" y="404640"/>
            <a:ext cx="504036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utat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40000" y="3574080"/>
            <a:ext cx="6480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ndom change in the genetic material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3"/>
          <p:cNvSpPr txBox="1"/>
          <p:nvPr/>
        </p:nvSpPr>
        <p:spPr>
          <a:xfrm>
            <a:off x="468360" y="476280"/>
            <a:ext cx="8064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ominan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116000" y="3573360"/>
            <a:ext cx="7488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 allele that is expressed w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an individual is heter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468360" y="476280"/>
            <a:ext cx="8064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cessiv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0" y="3573360"/>
            <a:ext cx="7488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 allele that is ‘hidden’ (not expres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when an individual is heter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for a given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your own words, explain the following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71640" y="765000"/>
            <a:ext cx="48355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am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Zyg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ipl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m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lective bre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netic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i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xual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omin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c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ell"/>
          <p:cNvPicPr/>
          <p:nvPr/>
        </p:nvPicPr>
        <p:blipFill>
          <a:blip r:embed="rId1"/>
          <a:stretch/>
        </p:blipFill>
        <p:spPr>
          <a:xfrm>
            <a:off x="611280" y="981000"/>
            <a:ext cx="3814560" cy="2746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2chromo_lg"/>
          <p:cNvPicPr/>
          <p:nvPr/>
        </p:nvPicPr>
        <p:blipFill>
          <a:blip r:embed="rId2"/>
          <a:stretch/>
        </p:blipFill>
        <p:spPr>
          <a:xfrm>
            <a:off x="5148360" y="981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x1_blu"/>
          <p:cNvPicPr/>
          <p:nvPr/>
        </p:nvPicPr>
        <p:blipFill>
          <a:blip r:embed="rId3"/>
          <a:stretch/>
        </p:blipFill>
        <p:spPr>
          <a:xfrm>
            <a:off x="5940360" y="4005360"/>
            <a:ext cx="2382840" cy="25905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5"/>
          <p:cNvSpPr/>
          <p:nvPr/>
        </p:nvSpPr>
        <p:spPr>
          <a:xfrm>
            <a:off x="3276720" y="189000"/>
            <a:ext cx="3024000" cy="720720"/>
          </a:xfrm>
          <a:custGeom>
            <a:avLst/>
            <a:gdLst>
              <a:gd name="textAreaLeft" fmla="*/ 529200 w 3024000"/>
              <a:gd name="textAreaRight" fmla="*/ 2192400 w 302400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608445"/>
                <a:lnTo>
                  <a:pt x="21452" y="17345"/>
                </a:lnTo>
                <a:lnTo>
                  <a:pt x="17280" y="21600"/>
                </a:lnTo>
                <a:lnTo>
                  <a:pt x="12812" y="17345"/>
                </a:lnTo>
                <a:lnTo>
                  <a:pt x="14972" y="17345"/>
                </a:lnTo>
                <a:arcTo wR="7560" hR="21600" stAng="-1791555" swAng="-3251010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 rot="5232600">
            <a:off x="7271280" y="3859920"/>
            <a:ext cx="3024360" cy="720720"/>
          </a:xfrm>
          <a:custGeom>
            <a:avLst/>
            <a:gdLst>
              <a:gd name="textAreaLeft" fmla="*/ 529200 w 3024360"/>
              <a:gd name="textAreaRight" fmla="*/ 2192760 w 302436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608445"/>
                <a:lnTo>
                  <a:pt x="21452" y="17345"/>
                </a:lnTo>
                <a:lnTo>
                  <a:pt x="17280" y="21600"/>
                </a:lnTo>
                <a:lnTo>
                  <a:pt x="12812" y="17345"/>
                </a:lnTo>
                <a:lnTo>
                  <a:pt x="14972" y="17345"/>
                </a:lnTo>
                <a:arcTo wR="7560" hR="21600" stAng="-1791555" swAng="-3251010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067280" y="4941720"/>
            <a:ext cx="1697040" cy="702000"/>
          </a:xfrm>
          <a:prstGeom prst="leftArrow">
            <a:avLst>
              <a:gd name="adj1" fmla="val 50000"/>
              <a:gd name="adj2" fmla="val 604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dna"/>
          <p:cNvPicPr/>
          <p:nvPr/>
        </p:nvPicPr>
        <p:blipFill>
          <a:blip r:embed="rId4"/>
          <a:stretch/>
        </p:blipFill>
        <p:spPr>
          <a:xfrm>
            <a:off x="900000" y="4437000"/>
            <a:ext cx="2924280" cy="1943280"/>
          </a:xfrm>
          <a:prstGeom prst="rect">
            <a:avLst/>
          </a:prstGeom>
          <a:ln w="0">
            <a:noFill/>
          </a:ln>
        </p:spPr>
      </p:pic>
      <p:sp>
        <p:nvSpPr>
          <p:cNvPr id="161" name="WordArt 9"/>
          <p:cNvSpPr txBox="1"/>
          <p:nvPr/>
        </p:nvSpPr>
        <p:spPr>
          <a:xfrm>
            <a:off x="2771640" y="3357720"/>
            <a:ext cx="3203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ere is it?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What does it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ladder"/>
          <p:cNvPicPr/>
          <p:nvPr/>
        </p:nvPicPr>
        <p:blipFill>
          <a:blip r:embed="rId1"/>
          <a:stretch/>
        </p:blipFill>
        <p:spPr>
          <a:xfrm>
            <a:off x="0" y="0"/>
            <a:ext cx="1655640" cy="3314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dna"/>
          <p:cNvPicPr/>
          <p:nvPr/>
        </p:nvPicPr>
        <p:blipFill>
          <a:blip r:embed="rId2"/>
          <a:stretch/>
        </p:blipFill>
        <p:spPr>
          <a:xfrm>
            <a:off x="1835280" y="1125360"/>
            <a:ext cx="4465440" cy="4584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DNA, BBC"/>
          <p:cNvPicPr/>
          <p:nvPr/>
        </p:nvPicPr>
        <p:blipFill>
          <a:blip r:embed="rId3"/>
          <a:stretch/>
        </p:blipFill>
        <p:spPr>
          <a:xfrm>
            <a:off x="6443640" y="3500280"/>
            <a:ext cx="2700360" cy="28227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 rot="20961600">
            <a:off x="900000" y="620640"/>
            <a:ext cx="1749600" cy="540072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 rot="21253800">
            <a:off x="3059280" y="476280"/>
            <a:ext cx="547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romos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6" name="Text Box 7"/>
          <p:cNvSpPr/>
          <p:nvPr/>
        </p:nvSpPr>
        <p:spPr>
          <a:xfrm rot="813600">
            <a:off x="3043800" y="2425320"/>
            <a:ext cx="5040360" cy="301860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Eurostar Black Extended"/>
              </a:rPr>
              <a:t>The instructions that tell cells what we look like are carried in these.  There are 23 pairs of them in a normal human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643364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hromosome"/>
          <p:cNvPicPr/>
          <p:nvPr/>
        </p:nvPicPr>
        <p:blipFill>
          <a:blip r:embed="rId1"/>
          <a:stretch/>
        </p:blipFill>
        <p:spPr>
          <a:xfrm>
            <a:off x="684360" y="476280"/>
            <a:ext cx="3911400" cy="5445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6"/>
          <p:cNvSpPr txBox="1"/>
          <p:nvPr/>
        </p:nvSpPr>
        <p:spPr>
          <a:xfrm>
            <a:off x="5148360" y="404640"/>
            <a:ext cx="2808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en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Line 8"/>
          <p:cNvSpPr/>
          <p:nvPr/>
        </p:nvSpPr>
        <p:spPr>
          <a:xfrm flipH="1" flipV="1">
            <a:off x="4284360" y="2060640"/>
            <a:ext cx="71892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H="1">
            <a:off x="4427280" y="2708280"/>
            <a:ext cx="649080" cy="180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 flipV="1">
            <a:off x="4355640" y="907920"/>
            <a:ext cx="647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5364000" y="2965680"/>
            <a:ext cx="345600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lump MT"/>
              </a:rPr>
              <a:t>These are the units which make up chromosomes. Responsible for inheritance of specific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nasal"/>
          <p:cNvPicPr/>
          <p:nvPr/>
        </p:nvPicPr>
        <p:blipFill>
          <a:blip r:embed="rId1"/>
          <a:stretch/>
        </p:blipFill>
        <p:spPr>
          <a:xfrm>
            <a:off x="3924360" y="4562640"/>
            <a:ext cx="5219640" cy="2295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blue-eyes"/>
          <p:cNvPicPr/>
          <p:nvPr/>
        </p:nvPicPr>
        <p:blipFill>
          <a:blip r:embed="rId2"/>
          <a:stretch/>
        </p:blipFill>
        <p:spPr>
          <a:xfrm>
            <a:off x="0" y="4613400"/>
            <a:ext cx="3924360" cy="224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hair%20updo"/>
          <p:cNvPicPr/>
          <p:nvPr/>
        </p:nvPicPr>
        <p:blipFill>
          <a:blip r:embed="rId3"/>
          <a:stretch/>
        </p:blipFill>
        <p:spPr>
          <a:xfrm>
            <a:off x="0" y="0"/>
            <a:ext cx="2556000" cy="223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img171"/>
          <p:cNvPicPr/>
          <p:nvPr/>
        </p:nvPicPr>
        <p:blipFill>
          <a:blip r:embed="rId4"/>
          <a:stretch/>
        </p:blipFill>
        <p:spPr>
          <a:xfrm>
            <a:off x="0" y="2205000"/>
            <a:ext cx="3316320" cy="251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ears"/>
          <p:cNvPicPr/>
          <p:nvPr/>
        </p:nvPicPr>
        <p:blipFill>
          <a:blip r:embed="rId5"/>
          <a:stretch/>
        </p:blipFill>
        <p:spPr>
          <a:xfrm>
            <a:off x="5724360" y="0"/>
            <a:ext cx="3419640" cy="459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emmclose_small"/>
          <p:cNvPicPr/>
          <p:nvPr/>
        </p:nvPicPr>
        <p:blipFill>
          <a:blip r:embed="rId6"/>
          <a:stretch/>
        </p:blipFill>
        <p:spPr>
          <a:xfrm>
            <a:off x="2556000" y="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"/>
          <p:cNvPicPr/>
          <p:nvPr/>
        </p:nvPicPr>
        <p:blipFill>
          <a:blip r:embed="rId7"/>
          <a:stretch/>
        </p:blipFill>
        <p:spPr>
          <a:xfrm>
            <a:off x="3132000" y="2276640"/>
            <a:ext cx="3409920" cy="2865240"/>
          </a:xfrm>
          <a:prstGeom prst="rect">
            <a:avLst/>
          </a:prstGeom>
          <a:ln w="0">
            <a:noFill/>
          </a:ln>
        </p:spPr>
      </p:pic>
      <p:sp>
        <p:nvSpPr>
          <p:cNvPr id="73" name="WordArt 25"/>
          <p:cNvSpPr txBox="1"/>
          <p:nvPr/>
        </p:nvSpPr>
        <p:spPr>
          <a:xfrm>
            <a:off x="539640" y="189000"/>
            <a:ext cx="8209080" cy="29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EATURES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Rectangle 26"/>
          <p:cNvSpPr/>
          <p:nvPr/>
        </p:nvSpPr>
        <p:spPr>
          <a:xfrm>
            <a:off x="395280" y="3429000"/>
            <a:ext cx="8424720" cy="27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These are things like eye colou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skin colour and hair colou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They are controlled by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84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frame_157"/>
          <p:cNvPicPr/>
          <p:nvPr/>
        </p:nvPicPr>
        <p:blipFill>
          <a:blip r:embed="rId2"/>
          <a:stretch/>
        </p:blipFill>
        <p:spPr>
          <a:xfrm>
            <a:off x="0" y="326700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4211640" y="2997360"/>
            <a:ext cx="4932360" cy="3860640"/>
          </a:xfrm>
          <a:prstGeom prst="rect">
            <a:avLst/>
          </a:prstGeom>
          <a:ln w="0">
            <a:noFill/>
          </a:ln>
        </p:spPr>
      </p:pic>
      <p:sp>
        <p:nvSpPr>
          <p:cNvPr id="79" name="WordArt 15"/>
          <p:cNvSpPr txBox="1"/>
          <p:nvPr/>
        </p:nvSpPr>
        <p:spPr>
          <a:xfrm rot="1240800">
            <a:off x="1187280" y="0"/>
            <a:ext cx="6477120" cy="31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amet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324000" y="4005360"/>
            <a:ext cx="8208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ff"/>
                </a:solidFill>
                <a:latin typeface="Comic Sans MS"/>
              </a:rPr>
              <a:t>Sperm and egg cells are both this type of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ff"/>
                </a:solidFill>
                <a:latin typeface="Comic Sans MS"/>
              </a:rPr>
              <a:t>Contain half the amount of DNA of normal diploid ce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4"/>
          <p:cNvSpPr txBox="1"/>
          <p:nvPr/>
        </p:nvSpPr>
        <p:spPr>
          <a:xfrm>
            <a:off x="468360" y="476280"/>
            <a:ext cx="457524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ygot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771640" y="3068640"/>
            <a:ext cx="5832720" cy="30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When a sperm and egg c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fuse togeth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y produc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7236000" cy="6842160"/>
          </a:xfrm>
          <a:prstGeom prst="rect">
            <a:avLst/>
          </a:prstGeom>
          <a:ln w="0">
            <a:noFill/>
          </a:ln>
        </p:spPr>
      </p:pic>
      <p:sp>
        <p:nvSpPr>
          <p:cNvPr id="87" name="WordArt 5"/>
          <p:cNvSpPr txBox="1"/>
          <p:nvPr/>
        </p:nvSpPr>
        <p:spPr>
          <a:xfrm>
            <a:off x="3780000" y="1125360"/>
            <a:ext cx="4700520" cy="151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diplo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708360" y="3429000"/>
            <a:ext cx="5111640" cy="20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use this word to descri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ells which contain the fu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lement of gene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terial.  In humans this would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6 chromosomes (23 pai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059280" cy="2384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6300720" y="4437000"/>
            <a:ext cx="2843280" cy="2421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2281320" y="4832280"/>
            <a:ext cx="390600" cy="399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12000" y="1268280"/>
            <a:ext cx="2581200" cy="178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5"/>
          <a:stretch/>
        </p:blipFill>
        <p:spPr>
          <a:xfrm>
            <a:off x="2987640" y="2349360"/>
            <a:ext cx="3386160" cy="2159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6"/>
          <a:stretch/>
        </p:blipFill>
        <p:spPr>
          <a:xfrm>
            <a:off x="6372360" y="220500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7"/>
          <a:stretch/>
        </p:blipFill>
        <p:spPr>
          <a:xfrm>
            <a:off x="6443640" y="692280"/>
            <a:ext cx="2340000" cy="1823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8"/>
          <a:stretch/>
        </p:blipFill>
        <p:spPr>
          <a:xfrm>
            <a:off x="2987640" y="3625920"/>
            <a:ext cx="1297080" cy="892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9"/>
          <a:stretch/>
        </p:blipFill>
        <p:spPr>
          <a:xfrm>
            <a:off x="2987640" y="0"/>
            <a:ext cx="3240000" cy="2341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10"/>
          <a:stretch/>
        </p:blipFill>
        <p:spPr>
          <a:xfrm>
            <a:off x="6227640" y="0"/>
            <a:ext cx="2916360" cy="2349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11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12"/>
          <a:stretch/>
        </p:blipFill>
        <p:spPr>
          <a:xfrm>
            <a:off x="5435640" y="0"/>
            <a:ext cx="1655640" cy="1125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13"/>
          <a:stretch/>
        </p:blipFill>
        <p:spPr>
          <a:xfrm>
            <a:off x="0" y="2349360"/>
            <a:ext cx="3059280" cy="2111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"/>
          <p:cNvPicPr/>
          <p:nvPr/>
        </p:nvPicPr>
        <p:blipFill>
          <a:blip r:embed="rId14"/>
          <a:stretch/>
        </p:blipFill>
        <p:spPr>
          <a:xfrm>
            <a:off x="2411280" y="0"/>
            <a:ext cx="1125720" cy="115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15"/>
          <a:stretch/>
        </p:blipFill>
        <p:spPr>
          <a:xfrm>
            <a:off x="3059280" y="4437000"/>
            <a:ext cx="3313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dg_paint_eye10"/>
          <p:cNvPicPr/>
          <p:nvPr/>
        </p:nvPicPr>
        <p:blipFill>
          <a:blip r:embed="rId16"/>
          <a:stretch/>
        </p:blipFill>
        <p:spPr>
          <a:xfrm>
            <a:off x="5435640" y="3716280"/>
            <a:ext cx="2076480" cy="1590840"/>
          </a:xfrm>
          <a:prstGeom prst="rect">
            <a:avLst/>
          </a:prstGeom>
          <a:ln w="0">
            <a:noFill/>
          </a:ln>
        </p:spPr>
      </p:pic>
      <p:sp>
        <p:nvSpPr>
          <p:cNvPr id="107" name="WordArt 19"/>
          <p:cNvSpPr txBox="1"/>
          <p:nvPr/>
        </p:nvSpPr>
        <p:spPr>
          <a:xfrm>
            <a:off x="324000" y="692280"/>
            <a:ext cx="8569080" cy="30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lleles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611280" y="4508640"/>
            <a:ext cx="7416720" cy="18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The different versions of ge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21:58:48Z</dcterms:created>
  <dc:creator>me</dc:creator>
  <dc:description/>
  <dc:language>en-US</dc:language>
  <cp:lastModifiedBy>LEGION2</cp:lastModifiedBy>
  <dcterms:modified xsi:type="dcterms:W3CDTF">2016-01-12T11:16:32Z</dcterms:modified>
  <cp:revision>10</cp:revision>
  <dc:subject/>
  <dc:title>Inheritance</dc:title>
</cp:coreProperties>
</file>